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C2DC-E5B1-4FFD-BFFE-CC2B88503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D72F-096D-45FA-BB21-4ACBDF53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0EF1-870A-4C46-BA62-C1ABAA4A7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3D95-3B24-415D-A6FF-3ECBE206E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FD51-125C-4A15-8EC5-CDD0BBA7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7E19-808B-45F9-9848-335E0AC7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CD38-6C6C-4AC1-8E00-0FDA44CB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BAB4-1DE9-4479-9386-7A2605A3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41C6-00F4-494A-AC7A-89CEF9D5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7492-C15E-4B21-8CA1-79FD0ABD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AA59-9DE0-4BC1-9BDF-BEC4E3FD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6959-98DD-4286-83A1-E2E0E41F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625E-901F-4BA7-A4FE-C54B5EEA26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250920" y="1484280"/>
            <a:ext cx="86659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أمر بالمعروف والنهي عن المنكر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50920" y="2205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بب الأمر </a:t>
            </a: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</a:rPr>
              <a:t>بالمعروف والنهي عن المنكر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أمن من عذاب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3"/>
          <a:stretch/>
        </p:blipFill>
        <p:spPr>
          <a:xfrm>
            <a:off x="179280" y="1052640"/>
            <a:ext cx="8713800" cy="5689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4"/>
          <a:stretch/>
        </p:blipFill>
        <p:spPr>
          <a:xfrm>
            <a:off x="324000" y="3645000"/>
            <a:ext cx="4211640" cy="904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5"/>
          <a:stretch/>
        </p:blipFill>
        <p:spPr>
          <a:xfrm>
            <a:off x="250920" y="4724280"/>
            <a:ext cx="4316400" cy="1944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6"/>
          <a:stretch/>
        </p:blipFill>
        <p:spPr>
          <a:xfrm>
            <a:off x="250920" y="2492280"/>
            <a:ext cx="4284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3"/>
          <a:stretch/>
        </p:blipFill>
        <p:spPr>
          <a:xfrm>
            <a:off x="395280" y="957240"/>
            <a:ext cx="8532720" cy="1895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4"/>
          <a:stretch/>
        </p:blipFill>
        <p:spPr>
          <a:xfrm>
            <a:off x="250920" y="2852640"/>
            <a:ext cx="86421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3"/>
          <a:stretch/>
        </p:blipFill>
        <p:spPr>
          <a:xfrm>
            <a:off x="179280" y="1438200"/>
            <a:ext cx="8713800" cy="523080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9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223920" y="589284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طاعة الله والرسول في كل أمر والبعد عن كل ما نهى عن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3"/>
          <a:stretch/>
        </p:blipFill>
        <p:spPr>
          <a:xfrm>
            <a:off x="503280" y="1125360"/>
            <a:ext cx="8202600" cy="1371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4"/>
          <a:stretch/>
        </p:blipFill>
        <p:spPr>
          <a:xfrm>
            <a:off x="2679840" y="3213000"/>
            <a:ext cx="6222960" cy="1359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5"/>
          <a:stretch/>
        </p:blipFill>
        <p:spPr>
          <a:xfrm>
            <a:off x="3378240" y="5365800"/>
            <a:ext cx="5537160" cy="58428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179280" y="2492280"/>
            <a:ext cx="8691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خوف من الله تعالى والدعاء بأن يثبت الله قلبه على الإيما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250920" y="452592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سماع تفه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09600" y="252360"/>
            <a:ext cx="85248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3351240"/>
            <a:ext cx="862812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1342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1673280"/>
            <a:ext cx="854208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8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86965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1116000" y="1197000"/>
            <a:ext cx="7707240" cy="439272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7667640" y="3429000"/>
            <a:ext cx="1368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1f497d"/>
                </a:solidFill>
                <a:latin typeface="Wingdings"/>
                <a:ea typeface="Wingdings"/>
              </a:rPr>
              <a:t>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8642160" cy="5399280"/>
          </a:xfrm>
          <a:prstGeom prst="rect">
            <a:avLst/>
          </a:prstGeom>
          <a:ln w="0">
            <a:noFill/>
          </a:ln>
        </p:spPr>
      </p:pic>
      <p:sp>
        <p:nvSpPr>
          <p:cNvPr id="54" name="عنوان 1"/>
          <p:cNvSpPr/>
          <p:nvPr/>
        </p:nvSpPr>
        <p:spPr>
          <a:xfrm>
            <a:off x="250920" y="38926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لا تعرضوا ع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45813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حيوان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52293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ن كلام الح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50920" y="587232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جيبوا الله والرسو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سماع الذي نفاه الله عن المشركين في قوله تعالى :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هو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سماع تدبر وعظ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0680" y="249228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ما سماع التبليغ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قد قامت الحجة عليهم به بما سمعوه من آي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321300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أن من  الناس من هو شر من الدواب وأحط منزل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 الله تعالى وهبهم أسماعاً وأبصاراً وأفئدة فاستعملوها في معصيته وتركوا طاعته وأمر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4149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لا يمنع الإيمان والخير إلا عم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ا خير في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1730520" y="1484280"/>
            <a:ext cx="2481120" cy="484200"/>
          </a:xfrm>
          <a:prstGeom prst="rect">
            <a:avLst/>
          </a:prstGeom>
          <a:ln w="0">
            <a:noFill/>
          </a:ln>
        </p:spPr>
      </p:pic>
      <p:sp>
        <p:nvSpPr>
          <p:cNvPr id="65" name="عنوان 1"/>
          <p:cNvSpPr/>
          <p:nvPr/>
        </p:nvSpPr>
        <p:spPr>
          <a:xfrm>
            <a:off x="179280" y="4797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ان عدم هداية الله للكفا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أن أنفسهم لا تقبل الخير ولا تميل إلى الهدى إذ عرف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5445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سبب الاستجابة لله ولرسوله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حياة المسلمين الحقيقية وقوتهم وعزت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609300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طريق سعادة المرء في الدنيا يكو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تقوى الله وطاعة رسوله </a:t>
            </a:r>
            <a:r>
              <a:rPr b="1" lang="en-US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1484280"/>
            <a:ext cx="86659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طريق سعادة المرء في الدنيا يكون بتقوى الله وطاعة رسوله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285264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قلوب بيد الله تعالى يصرفها كيف يشاء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دعائه </a:t>
            </a:r>
            <a:r>
              <a:rPr b="1" lang="en-US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: ((يا مقلب القلوب ثبت قلبي على دينك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386064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فسوق والمعاصي والمنكرات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حذر منه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179280" y="4508640"/>
            <a:ext cx="8666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حذر من الفسوق والمعاصي والمنكرات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أن ضررها لا يقتصر على الفاعل فحسب بل يتضرر بذلك المجتمع بأسر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27160" y="5445000"/>
            <a:ext cx="866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ضرر الفسوق والمعاصي والمنكرات لا يقتصر على الفاعل فحسب بل يتضرر بذلك المجتمع بأسر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قوله </a:t>
            </a:r>
            <a:r>
              <a:rPr b="1" lang="en-US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: ((إذا ظهرت المعاصي في أمتي عمهم الله بعذاب من عنده ...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527040" y="1989000"/>
            <a:ext cx="833112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